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F114-6388-4AEC-9836-22D017A6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DCB4-3948-4960-94A3-88DD1517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0416-C300-41DD-8C28-5584F565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592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428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C1D-8E2F-4525-9E45-04935401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480D-7BD6-4B11-895D-F7399546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C0F4-5FBD-4A97-A61C-6EC7667D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A6D3-4DAE-4FED-B5AB-F3CBEFB9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D37A-C982-4C29-9FE9-7886D5C2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EF27-1A11-4E07-81A8-6A62AB33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22C7-C43C-4A9A-8637-5E312D7D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04A2-B359-45E6-B08C-4A8958ED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4E4B-9BE0-4284-A485-7A4B2813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C13B-7108-49E8-9697-CC4BD3DD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7EB8-CB6A-447F-8E0D-9F278757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84BB-D2E5-424B-9C5B-EA3A27B5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A111-A2F7-4C73-8E25-045AC20E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592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428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1073-3FED-4189-928E-2077C17C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4563-1E23-4FCF-B210-C7698569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6788-530A-4909-B48A-EBEB5B55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B4F9-0B1F-48E4-BE5C-1892BCC6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4007-A974-4413-A2DA-CE9CBEDF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9FA8-2727-4BFC-834E-232EA25C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8291-5017-4AB7-ADB7-419CD99B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A36-C390-4C83-9D72-ADE6C1F1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1" marL="639000" indent="-245520">
              <a:spcBef>
                <a:spcPts val="1001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2" marL="982800" indent="-196560"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3" marL="1375920" indent="-196560">
              <a:spcBef>
                <a:spcPts val="1001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4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5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6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3CD7-875E-4A62-A43D-17AAB45E83E3}" type="slidenum">
              <a:rPr b="1" lang="en-US" sz="2000" spc="-1" strike="noStrike">
                <a:solidFill>
                  <a:srgbClr val="ffffff"/>
                </a:solidFill>
                <a:latin typeface="Andy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Andy"/>
              </a:rPr>
              <a:t>Click to edit the title text format</a:t>
            </a: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pic>
        <p:nvPicPr>
          <p:cNvPr id="6" name="Picture 8" descr="33399394"/>
          <p:cNvPicPr/>
          <p:nvPr/>
        </p:nvPicPr>
        <p:blipFill>
          <a:blip r:embed="rId2"/>
          <a:stretch/>
        </p:blipFill>
        <p:spPr>
          <a:xfrm>
            <a:off x="6781680" y="38862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33399394"/>
          <p:cNvPicPr/>
          <p:nvPr/>
        </p:nvPicPr>
        <p:blipFill>
          <a:blip r:embed="rId2"/>
          <a:stretch/>
        </p:blipFill>
        <p:spPr>
          <a:xfrm>
            <a:off x="0" y="1752480"/>
            <a:ext cx="419112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1" marL="639000" indent="-245520">
              <a:spcBef>
                <a:spcPts val="1001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2" marL="982800" indent="-196560"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3" marL="1375920" indent="-196560">
              <a:spcBef>
                <a:spcPts val="1001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4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5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6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Andy"/>
              </a:rPr>
              <a:t>Click to edit the title text format</a:t>
            </a: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00F6-02AD-4DC4-B809-75DDBA47FE3F}" type="slidenum">
              <a:rPr b="0" lang="en-US" sz="2400" spc="-1" strike="noStrike">
                <a:solidFill>
                  <a:srgbClr val="ffffff"/>
                </a:solidFill>
                <a:latin typeface="Andy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76312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Britannic Bold"/>
              </a:rPr>
              <a:t>Blending the Right Blended </a:t>
            </a:r>
            <a:br>
              <a:rPr sz="5000"/>
            </a:br>
            <a:r>
              <a:rPr b="1" lang="en-US" sz="5000" spc="-1" strike="noStrike">
                <a:solidFill>
                  <a:srgbClr val="000099"/>
                </a:solidFill>
                <a:latin typeface="Britannic Bold"/>
              </a:rPr>
              <a:t>E-learning</a:t>
            </a:r>
            <a:endParaRPr b="0" lang="en-US" sz="5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429000" y="2971440"/>
            <a:ext cx="54100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dy"/>
              </a:rPr>
              <a:t>Marmon A. Pagunsan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ndy"/>
              </a:rPr>
              <a:t>Training Programme Specialist </a:t>
            </a:r>
            <a:endParaRPr b="0" lang="en-US" sz="1500" spc="-1" strike="noStrike">
              <a:solidFill>
                <a:srgbClr val="000000"/>
              </a:solidFill>
              <a:latin typeface="Andy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ndy"/>
              </a:rPr>
              <a:t>Southeast Asian Ministers of Education Organisation</a:t>
            </a:r>
            <a:endParaRPr b="0" lang="en-US" sz="1500" spc="-1" strike="noStrike">
              <a:solidFill>
                <a:srgbClr val="000000"/>
              </a:solidFill>
              <a:latin typeface="Andy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ndy"/>
              </a:rPr>
              <a:t>Regional Centre for Education in Science and Mathematics</a:t>
            </a:r>
            <a:endParaRPr b="0" lang="en-US" sz="1500" spc="-1" strike="noStrike">
              <a:solidFill>
                <a:srgbClr val="000000"/>
              </a:solidFill>
              <a:latin typeface="Andy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ndy"/>
              </a:rPr>
              <a:t>Penang, Malaysia</a:t>
            </a:r>
            <a:endParaRPr b="0" lang="en-US" sz="15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52280" y="6477120"/>
            <a:ext cx="426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th - 17th October 2009 – BAH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4248000" cy="524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2"/>
          <a:stretch/>
        </p:blipFill>
        <p:spPr>
          <a:xfrm>
            <a:off x="7086600" y="5867280"/>
            <a:ext cx="180036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ndy"/>
              </a:rPr>
              <a:t>Blended E-learning</a:t>
            </a:r>
            <a:endParaRPr b="0" lang="en-US" sz="4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t merges aspects of e-learning such as: web-based instruction, streaming video, audio, synchronous and asynchronous communication, etc; with traditional “face-to-face” learning                 (Al-Hunaiyyan, Al-Huwail &amp;           Al-Sharhan, 2007).</a:t>
            </a:r>
            <a:endParaRPr b="0" lang="en-US" sz="3000" spc="-1" strike="noStrike">
              <a:solidFill>
                <a:srgbClr val="000000"/>
              </a:solidFill>
              <a:latin typeface="Andy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ndy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4248000" cy="5241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152280" y="6477120"/>
            <a:ext cx="426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th - 17th October 2009 – BAH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5334120" y="5867280"/>
            <a:ext cx="18000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ndy"/>
              </a:rPr>
              <a:t>Blended E-learning </a:t>
            </a:r>
            <a:endParaRPr b="0" lang="en-US" sz="4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4248000" cy="5241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152280" y="6477120"/>
            <a:ext cx="426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th - 17th October 2009 – BAH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5334120" y="5867280"/>
            <a:ext cx="1800000" cy="800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3"/>
          <a:stretch/>
        </p:blipFill>
        <p:spPr>
          <a:xfrm>
            <a:off x="457200" y="1066680"/>
            <a:ext cx="6629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ndy"/>
              </a:rPr>
              <a:t>What had been learned?</a:t>
            </a:r>
            <a:endParaRPr b="0" lang="en-US" sz="4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wo kinds of learners: active and passive online learners.</a:t>
            </a:r>
            <a:endParaRPr b="0" lang="en-US" sz="2500" spc="-1" strike="noStrike">
              <a:solidFill>
                <a:srgbClr val="000000"/>
              </a:solidFill>
              <a:latin typeface="Andy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nything new or noble does not necessarily appeal to all.</a:t>
            </a:r>
            <a:endParaRPr b="0" lang="en-US" sz="2500" spc="-1" strike="noStrike">
              <a:solidFill>
                <a:srgbClr val="000000"/>
              </a:solidFill>
              <a:latin typeface="Andy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t provided an avenue for learners &amp; teachers to optimize teaching and learning process.  </a:t>
            </a:r>
            <a:endParaRPr b="0" lang="en-US" sz="2500" spc="-1" strike="noStrike">
              <a:solidFill>
                <a:srgbClr val="000000"/>
              </a:solidFill>
              <a:latin typeface="Andy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he least and the last had an avenue to contribute  in the teaching-learning process.</a:t>
            </a:r>
            <a:endParaRPr b="0" lang="en-US" sz="2500" spc="-1" strike="noStrike">
              <a:solidFill>
                <a:srgbClr val="000000"/>
              </a:solidFill>
              <a:latin typeface="Andy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t is of prime importance for the teacher to                    know the right blend with the face-to-face                 learning and online learning.</a:t>
            </a:r>
            <a:endParaRPr b="0" lang="en-US" sz="2500" spc="-1" strike="noStrike">
              <a:solidFill>
                <a:srgbClr val="000000"/>
              </a:solidFill>
              <a:latin typeface="Andy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ndy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ndy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4248000" cy="524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152280" y="6477120"/>
            <a:ext cx="426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th - 17th October 2009 – BAH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5334120" y="5867280"/>
            <a:ext cx="18000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ndy"/>
              </a:rPr>
              <a:t>Blended E-learning Promise </a:t>
            </a:r>
            <a:endParaRPr b="0" lang="en-US" sz="4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4248000" cy="5241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152280" y="6477120"/>
            <a:ext cx="426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th - 17th October 2009 – BAH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5334120" y="5867280"/>
            <a:ext cx="1800000" cy="800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"/>
          <p:cNvPicPr/>
          <p:nvPr/>
        </p:nvPicPr>
        <p:blipFill>
          <a:blip r:embed="rId3"/>
          <a:stretch/>
        </p:blipFill>
        <p:spPr>
          <a:xfrm>
            <a:off x="457200" y="1066680"/>
            <a:ext cx="6629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ndy"/>
              </a:rPr>
              <a:t>Blended E-learning Promise </a:t>
            </a:r>
            <a:endParaRPr b="0" lang="en-US" sz="4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theast Asian Ministers of Education Organisation Regional Centre for Education in Science and Mathematics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AMEO RECS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unei Darrusalam, Cambodia, Indonesia, Lao PDR, Malaysia, Myanmar, Philippines, Singapore, Thailand, Timor Leste, Vietnam;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ociate Member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stralia, Canada, France, Germany, Netherlands, New Zealand, Norway, Spain 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a reputable educational institution                   committed to promoting science and                     mathematics education in Southeast Asia                and beyond. 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dy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4248000" cy="5241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152280" y="6477120"/>
            <a:ext cx="426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th - 17th October 2009 – BAH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2"/>
          <a:stretch/>
        </p:blipFill>
        <p:spPr>
          <a:xfrm>
            <a:off x="5334120" y="5867280"/>
            <a:ext cx="18000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ndy"/>
              </a:rPr>
              <a:t>Blended E-learning Promise </a:t>
            </a:r>
            <a:endParaRPr b="0" lang="en-US" sz="4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962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35% Reduced Cost</a:t>
            </a:r>
            <a:endParaRPr b="0" lang="en-US" sz="3300" spc="-1" strike="noStrike">
              <a:solidFill>
                <a:srgbClr val="000000"/>
              </a:solidFill>
              <a:latin typeface="Andy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4248000" cy="5241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152280" y="6477120"/>
            <a:ext cx="426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th - 17th October 2009 – BAH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5334120" y="5867280"/>
            <a:ext cx="1800000" cy="800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3"/>
          <a:stretch/>
        </p:blipFill>
        <p:spPr>
          <a:xfrm>
            <a:off x="457200" y="2898720"/>
            <a:ext cx="3962520" cy="2806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4"/>
          <a:stretch/>
        </p:blipFill>
        <p:spPr>
          <a:xfrm>
            <a:off x="4419720" y="1066680"/>
            <a:ext cx="39718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ndy"/>
              </a:rPr>
              <a:t>Blended E-learning Challenges </a:t>
            </a:r>
            <a:endParaRPr b="0" lang="en-US" sz="4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3886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Information and communication technology infrastructure availability in underdeveloped countries (e. g. Cambodia, Lao PDR, Myanmar, Timor Leste, etc.)</a:t>
            </a:r>
            <a:endParaRPr b="0" lang="en-US" sz="2300" spc="-1" strike="noStrike">
              <a:solidFill>
                <a:srgbClr val="000000"/>
              </a:solidFill>
              <a:latin typeface="Andy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4248000" cy="5241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152280" y="6477120"/>
            <a:ext cx="426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th - 17th October 2009 – BAH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5334120" y="5867280"/>
            <a:ext cx="1800000" cy="800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:\Users\marmon\Desktop\PICS &amp; VIDEO [TOTO]\100CASIO\CIMG0697.JPG"/>
          <p:cNvPicPr/>
          <p:nvPr/>
        </p:nvPicPr>
        <p:blipFill>
          <a:blip r:embed="rId3"/>
          <a:stretch/>
        </p:blipFill>
        <p:spPr>
          <a:xfrm>
            <a:off x="533520" y="1143000"/>
            <a:ext cx="3990960" cy="29923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533520" y="4191120"/>
            <a:ext cx="6629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formation and communication technologically challenged teacher participan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glish language barrier for non-English speaking countries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0" y="3657600"/>
            <a:ext cx="8915400" cy="36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ta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armon A. Pagunsan &lt;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marmonpagunsan@yahoo.com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aining Programme Specialis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theast Asian Ministers of Education Organis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gional Centre for Education in Science and Mathematic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AMEO RECSAM, Jalan Sultan Azlan Sha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1700 Gelugor, Penang, Malays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2895480" y="228600"/>
            <a:ext cx="586764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0000ff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Georgia"/>
              </a:rPr>
              <a:t>Maraming Salamat po!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0000ff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4248000" cy="5241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152280" y="6477120"/>
            <a:ext cx="426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th - 17th October 2009 – BAH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2"/>
          <a:stretch/>
        </p:blipFill>
        <p:spPr>
          <a:xfrm>
            <a:off x="7162920" y="5867280"/>
            <a:ext cx="1800000" cy="8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0T23:23:53Z</dcterms:created>
  <dc:creator>DORIS NUVAL</dc:creator>
  <dc:description/>
  <dc:language>en-US</dc:language>
  <cp:lastModifiedBy>marmon</cp:lastModifiedBy>
  <dcterms:modified xsi:type="dcterms:W3CDTF">2009-10-15T14:59:27Z</dcterms:modified>
  <cp:revision>54</cp:revision>
  <dc:subject/>
  <dc:title>Workshop on TV Assisted Instruction</dc:title>
</cp:coreProperties>
</file>